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F55D-CB48-49CE-87C5-CC0A0E98C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C4E0-4984-4BFF-B993-9CAA979CA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77D6-B55D-4830-B4FF-DCD023436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131C-71EE-403A-965B-5DDB90B91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1DC8-92BF-4EE0-B08F-FEAB5A35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5A22-DDA2-4D3A-8AA7-1C34A60C7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A5D6-EC53-4FE3-A4A6-032808E02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A4AB-F23D-4ABC-918D-390963673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9839-F913-4D46-9005-672EDAACC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9E2C-0B51-40A4-BE14-59448B71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13E1-D523-4043-9313-009C20BD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D4D6-9F15-4BF6-A8C1-902AD9B7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B9B49-C99F-4E5B-B0F0-4E84B2412A9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8763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28640" y="233208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Verdana"/>
              </a:rPr>
              <a:t>           </a:t>
            </a:r>
            <a:r>
              <a:rPr b="1" lang="en-US" sz="3200" spc="-1" strike="noStrike">
                <a:solidFill>
                  <a:srgbClr val="666699"/>
                </a:solidFill>
                <a:latin typeface="Lucida Handwriting"/>
              </a:rPr>
              <a:t>Creating        </a:t>
            </a:r>
            <a:r>
              <a:rPr b="1" lang="en-US" sz="3200" spc="-1" strike="noStrike">
                <a:solidFill>
                  <a:srgbClr val="666699"/>
                </a:solidFill>
                <a:latin typeface="Lucida Handwriting"/>
              </a:rPr>
              <a:t>	</a:t>
            </a:r>
            <a:r>
              <a:rPr b="1" lang="en-US" sz="3200" spc="-1" strike="noStrike">
                <a:solidFill>
                  <a:srgbClr val="666699"/>
                </a:solidFill>
                <a:latin typeface="Lucida Handwriting"/>
              </a:rPr>
              <a:t>Anchor Charts </a:t>
            </a:r>
            <a:r>
              <a:rPr b="1" lang="en-US" sz="3200" spc="-1" strike="noStrike">
                <a:solidFill>
                  <a:srgbClr val="666699"/>
                </a:solidFill>
                <a:latin typeface="Lucida Handwriting"/>
              </a:rPr>
              <a:t>	</a:t>
            </a:r>
            <a:r>
              <a:rPr b="1" lang="en-US" sz="3200" spc="-1" strike="noStrike">
                <a:solidFill>
                  <a:srgbClr val="666699"/>
                </a:solidFill>
                <a:latin typeface="Lucida Handwriting"/>
              </a:rPr>
              <a:t>with Stud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994200" y="304920"/>
            <a:ext cx="4902120" cy="6172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33520" y="266688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T Chart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5626080" cy="64486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019920" y="2514600"/>
            <a:ext cx="297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Reading Tip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6095880" cy="5229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127400" y="551196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Expectation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191120" y="228600"/>
            <a:ext cx="4757760" cy="61196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251460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Procedur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5148000" cy="62578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715000" y="2514600"/>
            <a:ext cx="32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Genre Featur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48120" y="228600"/>
            <a:ext cx="5867280" cy="54482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80880" y="571500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Questioning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5486400" cy="49212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127400" y="551196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Description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505320" y="304920"/>
            <a:ext cx="5022720" cy="51814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33520" y="5638680"/>
            <a:ext cx="701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Reading Reminder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4176720" cy="5410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127400" y="551196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Inferring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286000" y="304920"/>
            <a:ext cx="6556320" cy="50403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04920" y="5562720"/>
            <a:ext cx="85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Comparing with a Ven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066680"/>
            <a:ext cx="792468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Verdana"/>
              </a:rPr>
              <a:t>What they are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rge charts based on classro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scussions that are created wit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udents during the lear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fferent formats:  web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rainstorms, KWL, Venn Diagram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ists, T charts, timelines, story map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3 column charts, draw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400800" y="304920"/>
            <a:ext cx="182880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1066680"/>
            <a:ext cx="7924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400800" y="304920"/>
            <a:ext cx="1828800" cy="1608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80880" y="990720"/>
            <a:ext cx="8001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Verdana"/>
              </a:rPr>
              <a:t>Why we make them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Just like an anchor keeps a boat in place, they are a w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f “holding” or “anchoring” thinking for stud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kes student thinking visible and concre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hey serve as a visual reminder or artifact of th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learning that helps students remember a lesson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ategy, or conce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hey remain in the classroom for students who nee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ontinuous reminders or scaffolding – they don’t g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erased like a chalkboard or whitebo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hey allow students to make connections from o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ategy to another, clarify a point, or build on earli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lear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hey show students that their thinking mat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1066680"/>
            <a:ext cx="8382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Verdana"/>
              </a:rPr>
              <a:t>How to make them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chor charts are always co-constructed with the stud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apture student thinking precisely – use their ow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language instead of trying to “fix up” their thinking 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irror your 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Keep the chart focused on one particular strategy or conce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ke charts that are clear and organized so students c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understand them – graphic organizers work wel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harts are tied to a learning goal, objective, or conce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Use language appropriate to the developmental level of you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ud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Get ideas from commercially-made concept posters, and t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build a class discussion to replicate the poster using you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udents’ own language and ideas about the conce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400800" y="304920"/>
            <a:ext cx="182880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84280" y="260676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List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5408640" cy="65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333600" y="81000"/>
            <a:ext cx="5069160" cy="6705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89000" y="2479680"/>
            <a:ext cx="3124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3 Column Char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6858000" cy="5334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486400" y="563868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Drawing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5292720" cy="63244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8160" y="260676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Strategi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80880" y="127080"/>
            <a:ext cx="5604120" cy="66294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019920" y="2514600"/>
            <a:ext cx="297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Word List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2T13:27:02Z</dcterms:created>
  <dc:creator>HISD</dc:creator>
  <dc:description/>
  <dc:language>en-US</dc:language>
  <cp:lastModifiedBy>HISD</cp:lastModifiedBy>
  <dcterms:modified xsi:type="dcterms:W3CDTF">2009-04-09T17:15:53Z</dcterms:modified>
  <cp:revision>20</cp:revision>
  <dc:subject/>
  <dc:title>Slide 1</dc:title>
</cp:coreProperties>
</file>